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38D-28B2-4D24-8B82-EAFDB6EA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08E-3212-4901-AFBA-7B1A9B10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CED-A7C4-4741-8560-81AAE736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B03-2881-4538-999A-EBCCA2CE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99D-558B-4ACD-8BCB-EFFD4FC3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2DC-2B81-40C7-BCF2-0426E37E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E7A-DF9E-480B-AB64-627BD987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E6A-4EC5-41B2-AB99-7857E1A1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284-C0FE-4F14-B67C-C6189CEE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389-7FF4-4C43-8EC4-9CDAE0A9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54F-8FB3-4640-8485-86C95C99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A83-15AD-49E2-9F78-3B1B9F12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AF68-2B30-457F-B412-F1F5CA0CC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2.wmf"/><Relationship Id="rId3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6560" y="2422440"/>
            <a:ext cx="839016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89604" dir="2700000" blurRad="0" rotWithShape="0">
                    <a:srgbClr val="99cc00"/>
                  </a:outerShdw>
                </a:effectLst>
                <a:latin typeface="Arial Black"/>
              </a:rPr>
              <a:t>Huge Numbers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89604" dir="2700000" blurRad="0" rotWithShape="0">
                  <a:srgbClr val="99cc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11640" y="4329000"/>
            <a:ext cx="4032360" cy="25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32280"/>
            <a:ext cx="3203640" cy="792000"/>
          </a:xfrm>
          <a:prstGeom prst="wedgeRectCallout">
            <a:avLst>
              <a:gd name="adj1" fmla="val 40634"/>
              <a:gd name="adj2" fmla="val 17986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oo eas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042920" y="1521000"/>
          <a:ext cx="139248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21000"/>
                    <a:ext cx="139248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664000" y="1521000"/>
          <a:ext cx="1392120" cy="94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4000" y="1521000"/>
                    <a:ext cx="13921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311880" y="1521000"/>
          <a:ext cx="1392120" cy="94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11880" y="1521000"/>
                    <a:ext cx="13921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572000" y="1521000"/>
          <a:ext cx="1392120" cy="94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521000"/>
                    <a:ext cx="13921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78000" y="584280"/>
            <a:ext cx="838800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ut these 4 numbers in ascending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2843280" y="3429000"/>
            <a:ext cx="2035080" cy="300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2529000"/>
            <a:ext cx="3276720" cy="1331640"/>
          </a:xfrm>
          <a:prstGeom prst="cloudCallout">
            <a:avLst>
              <a:gd name="adj1" fmla="val -59203"/>
              <a:gd name="adj2" fmla="val 66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hint pleas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67400" y="4365720"/>
            <a:ext cx="14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184720" y="4976640"/>
          <a:ext cx="3743280" cy="1498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84720" y="4976640"/>
                    <a:ext cx="3743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148360" y="4976640"/>
          <a:ext cx="3741480" cy="1497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48360" y="4976640"/>
                    <a:ext cx="374148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50920" y="1398600"/>
          <a:ext cx="111744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98600"/>
                    <a:ext cx="11174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511280" y="1433520"/>
          <a:ext cx="203040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1280" y="1433520"/>
                    <a:ext cx="20304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797280" y="1204920"/>
          <a:ext cx="2182680" cy="11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97280" y="1204920"/>
                    <a:ext cx="2182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443640" y="1254240"/>
          <a:ext cx="2538360" cy="101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3640" y="1254240"/>
                    <a:ext cx="253836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33280" y="2631960"/>
          <a:ext cx="1117800" cy="76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3280" y="2631960"/>
                    <a:ext cx="111780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94000" y="2666880"/>
          <a:ext cx="2030400" cy="76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94000" y="2666880"/>
                    <a:ext cx="203040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780000" y="2463840"/>
          <a:ext cx="2182680" cy="11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80000" y="2463840"/>
                    <a:ext cx="2182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426360" y="2513160"/>
          <a:ext cx="2538360" cy="101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26360" y="2513160"/>
                    <a:ext cx="253836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33280" y="3821040"/>
          <a:ext cx="1117800" cy="758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3280" y="3821040"/>
                    <a:ext cx="1117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494000" y="3854520"/>
          <a:ext cx="2030400" cy="760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94000" y="3854520"/>
                    <a:ext cx="20304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780000" y="3651120"/>
          <a:ext cx="2182680" cy="1167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80000" y="3651120"/>
                    <a:ext cx="218268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400800" y="3700440"/>
          <a:ext cx="2589120" cy="1014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00800" y="3700440"/>
                    <a:ext cx="2589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96920" y="4986360"/>
          <a:ext cx="1117440" cy="760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6920" y="4986360"/>
                    <a:ext cx="11174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457280" y="5021280"/>
          <a:ext cx="2030400" cy="760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457280" y="5021280"/>
                    <a:ext cx="20304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743280" y="4818240"/>
          <a:ext cx="2182680" cy="1166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743280" y="4818240"/>
                    <a:ext cx="2182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389640" y="4867200"/>
          <a:ext cx="2538360" cy="1014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89640" y="4867200"/>
                    <a:ext cx="2538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863640" y="333360"/>
            <a:ext cx="7453440" cy="5814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SOLUTION TO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23:22:45Z</dcterms:created>
  <dc:creator>Trifon</dc:creator>
  <dc:description/>
  <dc:language>en-US</dc:language>
  <cp:lastModifiedBy>Trifon</cp:lastModifiedBy>
  <dcterms:modified xsi:type="dcterms:W3CDTF">2003-11-18T23:57:39Z</dcterms:modified>
  <cp:revision>4</cp:revision>
  <dc:subject/>
  <dc:title>Slide 1</dc:title>
</cp:coreProperties>
</file>